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dailydoub.wav" ContentType="audio/x-wav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39" name="WordArt 8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WordArt 10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WordArt 11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2" name="opening.wav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0"/>
            <a:ext cx="9144000" cy="4703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required for food service workers to do with cuts or burns on their hands before preparing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0" y="0"/>
            <a:ext cx="914400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cle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3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04920" y="2498760"/>
            <a:ext cx="838188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term describes foods that can support the rapid and progressive growth of infectious and toxin-causing micro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potentially hazardous food (PHF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ring just received food in back of similar food, so older items are used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First In, First Out (FIFO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-by-step procedures for a specific food service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standard operating procedures (SOPs)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number of people in the U.S. affected by food aller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2 mill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wash hands, cover with bandage, and wear glo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rule requires food service workers to wear gloves, use deli tissue or tongs, or some other barrier when handling fo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0" y="0"/>
            <a:ext cx="914400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“no bare hand contact”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0" y="0"/>
            <a:ext cx="891540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method is recommended when preparing large amounts of PH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0" y="0"/>
            <a:ext cx="914400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batch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opper pan to prepare an acidic food, like tomato soup, is an example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0" y="0"/>
            <a:ext cx="914400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chemical haza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food service sink may not be used for food pr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hand wash sin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how far foods should be stored off of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6 in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-site wells tested annually and public water supply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are used on water faucets to prevent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backflow dev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food service establishments should have one in place to prevent rodent and insect conta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est management progr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how cleaning agents and food products should be st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separate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0" y="0"/>
            <a:ext cx="9144000" cy="5312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lk and dairy products, eggs and egg products, fish, shellfish, wheat, soy and soy products, peanuts, and tree n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0" y="0"/>
            <a:ext cx="914400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“Big 8” common food allerge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7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WordArt 4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AutoShape 6"/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 service work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9"/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main responsibility of food service work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finaljeo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249876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n approved water source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o serve safe, quality me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9"/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04920" y="2498760"/>
            <a:ext cx="838188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fect place for this bacteria to grow is in canned foods and it produces the most deadly toxin known to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ostridium botulinu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virus contaminates water and is passed by not washing hands after using the rest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noroviru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, acidity, time, temperature, oxygen and moi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factors that affect bacterial grow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7" descr=""/>
          <p:cNvPicPr/>
          <p:nvPr/>
        </p:nvPicPr>
        <p:blipFill>
          <a:blip r:embed="rId1"/>
          <a:stretch/>
        </p:blipFill>
        <p:spPr>
          <a:xfrm>
            <a:off x="6935760" y="2003400"/>
            <a:ext cx="1827360" cy="439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3429000" y="2136600"/>
            <a:ext cx="2249640" cy="4035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2003400" cy="41623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49212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616200" y="4876920"/>
            <a:ext cx="18702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6851520" y="4879800"/>
            <a:ext cx="187020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533520" y="5334120"/>
            <a:ext cx="1752480" cy="108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5"/>
          <a:stretch/>
        </p:blipFill>
        <p:spPr>
          <a:xfrm>
            <a:off x="3581280" y="5551560"/>
            <a:ext cx="190512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7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5">
            <a:hlinkClick r:id="rId8" action="ppaction://hlinksldjump"/>
          </p:cNvPr>
          <p:cNvSpPr/>
          <p:nvPr/>
        </p:nvSpPr>
        <p:spPr>
          <a:xfrm>
            <a:off x="34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3">
            <a:hlinkClick r:id="rId9" action="ppaction://hlinksldjump"/>
          </p:cNvPr>
          <p:cNvSpPr/>
          <p:nvPr/>
        </p:nvSpPr>
        <p:spPr>
          <a:xfrm>
            <a:off x="13716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6">
            <a:hlinkClick r:id="rId10" action="ppaction://hlinksldjump"/>
          </p:cNvPr>
          <p:cNvSpPr/>
          <p:nvPr/>
        </p:nvSpPr>
        <p:spPr>
          <a:xfrm>
            <a:off x="144792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4">
            <a:hlinkClick r:id="rId11" action="ppaction://hlinksldjump"/>
          </p:cNvPr>
          <p:cNvSpPr/>
          <p:nvPr/>
        </p:nvSpPr>
        <p:spPr>
          <a:xfrm>
            <a:off x="274320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7">
            <a:hlinkClick r:id="rId12" action="ppaction://hlinksldjump"/>
          </p:cNvPr>
          <p:cNvSpPr/>
          <p:nvPr/>
        </p:nvSpPr>
        <p:spPr>
          <a:xfrm>
            <a:off x="2784600" y="1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WordArt 3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types of cells are more resistant to hot and cold conditions and can survive normal cooking temper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bacterial spore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five diseases exclude workers from food service estab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2498760"/>
            <a:ext cx="868680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infections with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almonella, Shigella, E. coli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patitis A and noroviru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time and temperature requirement for cooking ground be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55°F for 15 seco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cooking time and temperature required for poult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65°F for 15 second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oked foods must be hot-held at this temperature for saf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4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34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3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4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5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46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7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8"/>
          <p:cNvSpPr/>
          <p:nvPr/>
        </p:nvSpPr>
        <p:spPr>
          <a:xfrm>
            <a:off x="0" y="8380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ter, Cleaning, &amp; Sanitiz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9"/>
          <p:cNvSpPr/>
          <p:nvPr/>
        </p:nvSpPr>
        <p:spPr>
          <a:xfrm>
            <a:off x="1295280" y="838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thogenic Micro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0"/>
          <p:cNvSpPr/>
          <p:nvPr/>
        </p:nvSpPr>
        <p:spPr>
          <a:xfrm>
            <a:off x="2590920" y="8064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me Like It 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1"/>
          <p:cNvSpPr/>
          <p:nvPr/>
        </p:nvSpPr>
        <p:spPr>
          <a:xfrm>
            <a:off x="3809880" y="8064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l  Food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2"/>
          <p:cNvSpPr/>
          <p:nvPr/>
        </p:nvSpPr>
        <p:spPr>
          <a:xfrm>
            <a:off x="4876920" y="838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od &amp; Haz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3"/>
          <p:cNvSpPr/>
          <p:nvPr/>
        </p:nvSpPr>
        <p:spPr>
          <a:xfrm>
            <a:off x="6172200" y="80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ll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3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4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27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0">
            <a:hlinkClick r:id="rId2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21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1">
            <a:hlinkClick r:id="rId3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15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2">
            <a:hlinkClick r:id="rId4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9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3">
            <a:hlinkClick r:id="rId5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03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4">
            <a:hlinkClick r:id="rId6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32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5">
            <a:hlinkClick r:id="rId7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26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66">
            <a:hlinkClick r:id="rId8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20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67">
            <a:hlinkClick r:id="rId9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14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8">
            <a:hlinkClick r:id="rId10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08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9">
            <a:hlinkClick r:id="rId11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02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70">
            <a:hlinkClick r:id="rId12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31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1">
            <a:hlinkClick r:id="rId13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25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2">
            <a:hlinkClick r:id="rId14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19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73">
            <a:hlinkClick r:id="rId15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13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74">
            <a:hlinkClick r:id="rId16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07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75">
            <a:hlinkClick r:id="rId17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01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76">
            <a:hlinkClick r:id="rId1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30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7">
            <a:hlinkClick r:id="rId19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24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78">
            <a:hlinkClick r:id="rId20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18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79">
            <a:hlinkClick r:id="rId21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12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0">
            <a:hlinkClick r:id="rId22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06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81">
            <a:hlinkClick r:id="rId23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00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82">
            <a:hlinkClick r:id="rId24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9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83">
            <a:hlinkClick r:id="rId25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23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84">
            <a:hlinkClick r:id="rId26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17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85">
            <a:hlinkClick r:id="rId27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11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86">
            <a:hlinkClick r:id="rId28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5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7">
            <a:hlinkClick r:id="rId29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99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88">
            <a:hlinkClick r:id="rId30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24">
            <a:hlinkClick r:id="rId31" action="ppaction://hlinksldjump"/>
          </p:cNvPr>
          <p:cNvSpPr/>
          <p:nvPr/>
        </p:nvSpPr>
        <p:spPr>
          <a:xfrm>
            <a:off x="7924680" y="6858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25">
            <a:hlinkClick r:id="rId32" action="ppaction://hlinksldjump"/>
          </p:cNvPr>
          <p:cNvSpPr/>
          <p:nvPr/>
        </p:nvSpPr>
        <p:spPr>
          <a:xfrm>
            <a:off x="7918560" y="990720"/>
            <a:ext cx="12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27">
            <a:hlinkClick r:id="rId33" action="ppaction://hlinksldjump"/>
          </p:cNvPr>
          <p:cNvSpPr/>
          <p:nvPr/>
        </p:nvSpPr>
        <p:spPr>
          <a:xfrm>
            <a:off x="792468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28">
            <a:hlinkClick r:id="rId34" action="ppaction://hlinksldjump"/>
          </p:cNvPr>
          <p:cNvSpPr/>
          <p:nvPr/>
        </p:nvSpPr>
        <p:spPr>
          <a:xfrm>
            <a:off x="8001000" y="190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30">
            <a:hlinkClick r:id="rId35" action="ppaction://hlinksldjump"/>
          </p:cNvPr>
          <p:cNvSpPr/>
          <p:nvPr/>
        </p:nvSpPr>
        <p:spPr>
          <a:xfrm>
            <a:off x="7924680" y="281952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31">
            <a:hlinkClick r:id="rId36" action="ppaction://hlinksldjump"/>
          </p:cNvPr>
          <p:cNvSpPr/>
          <p:nvPr/>
        </p:nvSpPr>
        <p:spPr>
          <a:xfrm>
            <a:off x="7966080" y="312408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35°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time and cooking temperature required for reheating f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65°F for 15 second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take accurate temperatures, dial thermometers must be inserted this f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inserting the thermometer to the dimple or 2½” into foo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the same knife and cutting board to cut chicken and chop vegetables is an example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cross-contamin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food items should be stored in a pan on the bottom shelf of the freezer and coo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raw meat, poultry, and fis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ules that govern foodservice food safety procedures in Idaho can be found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ratio of bleach to water to make a 100ppm chlorine sanitizing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aho Food Cod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systems frequently used to manage food safety in food establis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HACCP and Active Managerial Contr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04920" y="685800"/>
            <a:ext cx="8381880" cy="5808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 obtained from unsafe sourc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iling to cook food adequately, Food held at incorrect temperatur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 prepared using contaminated equipm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ployees having poor personal hygi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five most common risk factors for foodborne illness in food establishment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range of temperature is known as the “Danger Zo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41°F to 135°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maximum amount of time PHF can safely stay in the Danger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4 h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are three types of foodborne haz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 Tbsp bleach to 2 gallons wat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chemical, physical, and biological haz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are three common characteristics of PH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protein rich, high water content, and low acidit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vironmental Health Specialists in Idaho Health Distri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enforces the food safety rules in the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daho Food Cod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ld foods should be held at or below this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41°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are three safe methods for thawing f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in the walk-in cooler, under running water, and as part of the cooking proc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method of cooling food requires food to be cooled to 70°F within 2 hours and to 41°F in an additional 4 ho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2362320"/>
            <a:ext cx="7238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 service workers should wash their hands for this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2-stage cool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are three safe methods to cool PHF quick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division into shallow containers, ice wand, and ice water ba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cterial growth does this when held at cooler or freezer temper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slow down or sto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1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2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6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0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12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15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6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7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20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21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22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23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24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5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27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8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9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0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1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32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33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4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35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36"/>
          <p:cNvSpPr/>
          <p:nvPr/>
        </p:nvSpPr>
        <p:spPr>
          <a:xfrm>
            <a:off x="4876920" y="685800"/>
            <a:ext cx="1295280" cy="990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37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8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39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0"/>
          <p:cNvSpPr/>
          <p:nvPr/>
        </p:nvSpPr>
        <p:spPr>
          <a:xfrm>
            <a:off x="228600" y="80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ean and 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1"/>
          <p:cNvSpPr/>
          <p:nvPr/>
        </p:nvSpPr>
        <p:spPr>
          <a:xfrm>
            <a:off x="1371600" y="806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ll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2"/>
          <p:cNvSpPr/>
          <p:nvPr/>
        </p:nvSpPr>
        <p:spPr>
          <a:xfrm>
            <a:off x="251460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6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7">
            <a:hlinkClick r:id="rId2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8">
            <a:hlinkClick r:id="rId3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9">
            <a:hlinkClick r:id="rId4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0">
            <a:hlinkClick r:id="rId5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51">
            <a:hlinkClick r:id="rId6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2">
            <a:hlinkClick r:id="rId7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3">
            <a:hlinkClick r:id="rId8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54">
            <a:hlinkClick r:id="rId9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5">
            <a:hlinkClick r:id="rId10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6">
            <a:hlinkClick r:id="rId11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57">
            <a:hlinkClick r:id="rId12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58">
            <a:hlinkClick r:id="rId13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9">
            <a:hlinkClick r:id="rId14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60">
            <a:hlinkClick r:id="rId15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61">
            <a:hlinkClick r:id="rId16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2">
            <a:hlinkClick r:id="rId17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63">
            <a:hlinkClick r:id="rId1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4">
            <a:hlinkClick r:id="rId19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65">
            <a:hlinkClick r:id="rId20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6">
            <a:hlinkClick r:id="rId21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7">
            <a:hlinkClick r:id="rId22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68">
            <a:hlinkClick r:id="rId23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69">
            <a:hlinkClick r:id="rId24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70">
            <a:hlinkClick r:id="rId25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1">
            <a:hlinkClick r:id="rId26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72">
            <a:hlinkClick r:id="rId27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73">
            <a:hlinkClick r:id="rId28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4">
            <a:hlinkClick r:id="rId29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75">
            <a:hlinkClick r:id="rId30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78">
            <a:hlinkClick r:id="rId31" action="ppaction://hlinksldjump"/>
          </p:cNvPr>
          <p:cNvSpPr/>
          <p:nvPr/>
        </p:nvSpPr>
        <p:spPr>
          <a:xfrm>
            <a:off x="7889760" y="6858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79">
            <a:hlinkClick r:id="rId32" action="ppaction://hlinksldjump"/>
          </p:cNvPr>
          <p:cNvSpPr/>
          <p:nvPr/>
        </p:nvSpPr>
        <p:spPr>
          <a:xfrm>
            <a:off x="7883640" y="990720"/>
            <a:ext cx="12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81">
            <a:hlinkClick r:id="rId33" action="ppaction://hlinksldjump"/>
          </p:cNvPr>
          <p:cNvSpPr/>
          <p:nvPr/>
        </p:nvSpPr>
        <p:spPr>
          <a:xfrm>
            <a:off x="788976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2">
            <a:hlinkClick r:id="rId34" action="ppaction://hlinksldjump"/>
          </p:cNvPr>
          <p:cNvSpPr/>
          <p:nvPr/>
        </p:nvSpPr>
        <p:spPr>
          <a:xfrm>
            <a:off x="7966080" y="19335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84">
            <a:hlinkClick r:id="rId35" action="ppaction://hlinksldjump"/>
          </p:cNvPr>
          <p:cNvSpPr/>
          <p:nvPr/>
        </p:nvSpPr>
        <p:spPr>
          <a:xfrm>
            <a:off x="7889760" y="281952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85">
            <a:hlinkClick r:id="rId36" action="ppaction://hlinksldjump"/>
          </p:cNvPr>
          <p:cNvSpPr/>
          <p:nvPr/>
        </p:nvSpPr>
        <p:spPr>
          <a:xfrm>
            <a:off x="7931160" y="30924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t and cold water, soap, sanitary drying method, garbage can, and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items required for food service hand wash station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5">
            <a:hlinkClick r:id="rId1" action="ppaction://hlinksldjump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6">
            <a:hlinkClick r:id="rId2" action="ppaction://hlinksldjump"/>
          </p:cNvPr>
          <p:cNvSpPr/>
          <p:nvPr/>
        </p:nvSpPr>
        <p:spPr>
          <a:xfrm>
            <a:off x="80010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uffed meats must be cooked to this internal temperature to be safe to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65°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20 second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neezing, coughing and runny nose, sore throat and fever, vomiting, diarrhea, jau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04920" y="2498760"/>
            <a:ext cx="8381880" cy="2849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symptoms that restrict food workers from handling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304920" y="2498760"/>
            <a:ext cx="8381880" cy="3750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ever hands should be washed, If they tear, When beginning a new task, At least every four hours, After handling raw meat,  Before handling cooked or RTE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imes that gloves should be chang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04920" y="2498760"/>
            <a:ext cx="8381880" cy="2844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emperature of hot held foods should be checked this of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very 4 hou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57200" y="297180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not an acceptable method for thawing f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0" y="0"/>
            <a:ext cx="914400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awing at room tempera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WordArt 3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can lower the temperature of walk-in coolers and freez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0"/>
            <a:ext cx="8839080" cy="409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order for proper warewa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overload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F held refrigerated must be used in this number of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7 day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04920" y="2498760"/>
            <a:ext cx="838188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od service workers must do this to all PHF that are held in the Danger Zone for more than four ho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discar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when foods must be cooked if thawed in the microw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immediate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se groups of people are at higher risk than the general population for contracting a F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04920" y="2498760"/>
            <a:ext cx="8381880" cy="2239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are the elderly, pregnant, young, and the 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hazard causes the most F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wash, rinse, sanitize, and air dr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0" y="0"/>
            <a:ext cx="914400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biological haza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usea, vomiting, diarrhea, fever, and abdominal cra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common symptoms of foodborne illne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80880" y="1905120"/>
            <a:ext cx="8382240" cy="3458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the route viruses can take to contaminate water or food and cause FBI if hands are not washed prope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fecal-oral rou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is approximately the number of people contracting a FBI each year in the United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04920" y="249876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1 in every 6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term describes foods that are not cooked before ea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ready-to-eat food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7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0" y="0"/>
            <a:ext cx="9144000" cy="3484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term means free of visible 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Debra J Rumford</cp:lastModifiedBy>
  <dcterms:modified xsi:type="dcterms:W3CDTF">2011-11-15T17:46:01Z</dcterms:modified>
  <cp:revision>38</cp:revision>
  <dc:subject/>
  <dc:title>No Slide Title</dc:title>
</cp:coreProperties>
</file>